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4172-31B8-41C8-9237-A3D624A8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8959-EA8A-4E81-9504-0E81BAAE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5731-2791-4CAA-AFC4-692740D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B7F9-232C-4125-8C2B-9390586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C0F9-6E80-43CF-A1D8-F5BD8A3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5C7A-054C-463E-A676-745B105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E0C0-B22E-4535-837C-09B50C3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A8B8-EF15-41A6-9A0E-F303579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278F-74C8-4B12-BD36-B0FBEDE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8808-8DDB-443E-A96D-3011F5F5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6809-0F4B-4A37-9FE4-5C1C7D29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0A4F-CCF8-4040-B932-436EDA6A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2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6040" indent="-226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47520"/>
            <a:ext cx="8855280" cy="398880"/>
          </a:xfrm>
          <a:prstGeom prst="rect">
            <a:avLst/>
          </a:prstGeom>
          <a:noFill/>
          <a:ln cap="rnd" w="3816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cc00ff"/>
                </a:solidFill>
                <a:latin typeface="隶书"/>
                <a:ea typeface="隶书"/>
              </a:rPr>
              <a:t>7</a:t>
            </a:r>
            <a:r>
              <a:rPr b="1" lang="zh-CN" sz="2000" spc="-1" strike="noStrike">
                <a:solidFill>
                  <a:srgbClr val="cc00ff"/>
                </a:solidFill>
                <a:latin typeface="隶书"/>
                <a:ea typeface="隶书"/>
              </a:rPr>
              <a:t>章  使用和管理</a:t>
            </a:r>
            <a:r>
              <a:rPr b="1" lang="zh-CN" sz="2000" spc="-1" strike="noStrike">
                <a:solidFill>
                  <a:srgbClr val="cc00ff"/>
                </a:solidFill>
                <a:latin typeface="隶书"/>
                <a:ea typeface="隶书"/>
              </a:rPr>
              <a:t>Windows 2000</a:t>
            </a:r>
            <a:r>
              <a:rPr b="1" lang="zh-CN" sz="2000" spc="-1" strike="noStrike">
                <a:solidFill>
                  <a:srgbClr val="cc00ff"/>
                </a:solidFill>
                <a:latin typeface="隶书"/>
                <a:ea typeface="隶书"/>
              </a:rPr>
              <a:t>活动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304920" y="2602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2920" y="304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4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C12-FA38-4E12-AA4C-B3635C1FBAF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slide25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30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5.xml"/><Relationship Id="rId19" Type="http://schemas.openxmlformats.org/officeDocument/2006/relationships/slide" Target="slide1.xml"/><Relationship Id="rId2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" Target="slide39.xml"/><Relationship Id="rId10" Type="http://schemas.openxmlformats.org/officeDocument/2006/relationships/slide" Target="slide41.xml"/><Relationship Id="rId11" Type="http://schemas.openxmlformats.org/officeDocument/2006/relationships/slide" Target="slide41.xml"/><Relationship Id="rId12" Type="http://schemas.openxmlformats.org/officeDocument/2006/relationships/slide" Target="slide41.xml"/><Relationship Id="rId13" Type="http://schemas.openxmlformats.org/officeDocument/2006/relationships/slide" Target="slide42.xml"/><Relationship Id="rId14" Type="http://schemas.openxmlformats.org/officeDocument/2006/relationships/slide" Target="slide42.xml"/><Relationship Id="rId15" Type="http://schemas.openxmlformats.org/officeDocument/2006/relationships/slide" Target="slide42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Book Antiqua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Book Antiqua"/>
              </a:rPr>
              <a:t>7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章</a:t>
            </a:r>
            <a:r>
              <a:rPr b="1" lang="zh-CN" sz="3200" spc="-1" strike="noStrike">
                <a:solidFill>
                  <a:srgbClr val="ffcc66"/>
                </a:solidFill>
                <a:latin typeface="Book Antiqua"/>
              </a:rPr>
              <a:t>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使用和管理</a:t>
            </a:r>
            <a:r>
              <a:rPr b="1" lang="zh-CN" sz="3200" spc="-1" strike="noStrike">
                <a:solidFill>
                  <a:srgbClr val="ffcc66"/>
                </a:solidFill>
                <a:latin typeface="Book Antiqua"/>
              </a:rPr>
              <a:t>Windows 2000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活动目录</a:t>
            </a:r>
            <a:r>
              <a:rPr b="1" lang="zh-CN" sz="32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240" y="2266920"/>
            <a:ext cx="4267080" cy="29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9933"/>
                </a:solidFill>
                <a:uFillTx/>
                <a:latin typeface="宋体"/>
                <a:hlinkClick r:id="rId1" action="ppaction://hlinksldjump"/>
              </a:rPr>
              <a:t>7.1  </a:t>
            </a:r>
            <a:r>
              <a:rPr b="1" lang="zh-CN" sz="3200" spc="-1" strike="noStrike" u="sng">
                <a:solidFill>
                  <a:srgbClr val="999933"/>
                </a:solidFill>
                <a:uFillTx/>
                <a:latin typeface="Times New Roman"/>
                <a:hlinkClick r:id="rId2" action="ppaction://hlinksldjump"/>
              </a:rPr>
              <a:t>活动目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9933"/>
                </a:solidFill>
                <a:uFillTx/>
                <a:latin typeface="Times New Roman"/>
                <a:hlinkClick r:id="rId3" action="ppaction://hlinksldjump"/>
              </a:rPr>
              <a:t>7.2     组织单位的管理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9933"/>
                </a:solidFill>
                <a:uFillTx/>
                <a:latin typeface="Times New Roman"/>
                <a:hlinkClick r:id="rId4" action="ppaction://hlinksldjump"/>
              </a:rPr>
              <a:t>7.3     用户账户的管理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9933"/>
                </a:solidFill>
                <a:uFillTx/>
                <a:latin typeface="Times New Roman"/>
                <a:hlinkClick r:id="rId5" action="ppaction://hlinksldjump"/>
              </a:rPr>
              <a:t>7.4     组的建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343400" cy="327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33120" y="5318280"/>
            <a:ext cx="29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6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输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NetBIO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域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24280" y="1565280"/>
            <a:ext cx="4191120" cy="3159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77240" y="5268960"/>
            <a:ext cx="30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7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指定数据库和日志文件的位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114800" cy="3103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0920" y="533412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8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指定系统卷共享的文件夹的位置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764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876920" y="1752480"/>
          <a:ext cx="4038480" cy="304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40384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688000" y="5345280"/>
            <a:ext cx="27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9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安装与配置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310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57160" y="5334120"/>
            <a:ext cx="32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10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用户和组对象选择默认权限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3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310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41960" y="5345280"/>
            <a:ext cx="33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11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目录服务恢复模式的管理员密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434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14800" cy="310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23560" y="5638680"/>
            <a:ext cx="20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-12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摘要”对话框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5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9604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37320" y="5586480"/>
            <a:ext cx="40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-13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正在配置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窗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活动目录用户和计算机控制台的使用</a:t>
            </a: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动目录用户和计算机控制台，用于增加、修改、删除、管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和计算机账户、组和组织单位等对象，并可在目录上发布和管理资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763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6858000" cy="2811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29680" y="63244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-14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用户和计算机”控制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．改变用户和计算机显示方式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开“活动目录用户和计算机”控制台，可以展开域节点，在窗口左边的控制台树中显示一些文件夹，如果是新安装的域控制器，文件夹缺省显示是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uilti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预定义本地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；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puter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算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main Contro1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域控制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；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User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预定义全局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；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oreignSecurityPricapa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部安全负责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8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019560" cy="4440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36520" y="5791320"/>
            <a:ext cx="30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15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器选项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．预定义的组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4479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用户安装了一个域控制器后，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uilti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User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文件夹下可以看到系统预定义的组，这些组都是安全组，代表不同的权限和权利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92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6095880" cy="2517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17760" y="609588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16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预定义的本地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432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3127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97360" y="529740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17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预定义的全局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织单位的管理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361960"/>
            <a:ext cx="4572000" cy="19047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7.2.1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2" action="ppaction://hlinksldjump"/>
              </a:rPr>
              <a:t>添加组织单位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4" action="ppaction://hlinksldjump"/>
              </a:rPr>
              <a:t>7.2.2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5" action="ppaction://hlinksldjump"/>
              </a:rPr>
              <a:t>删除组织单位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7" action="ppaction://hlinksldjump"/>
              </a:rPr>
              <a:t>7.2.3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8" action="ppaction://hlinksldjump"/>
              </a:rPr>
              <a:t>设置组织单位属性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0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4008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ffcc66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724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目录的概念与特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目录的创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目录用户和计算机控制台的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织单位、用户账户和组的创建与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2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添加组织单位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429000" cy="403848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域中合理地添加和设置组织单位，不仅方便了管理员对域中用户和组的管理，而且还有利于网络的扩展。要添加组织单位，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98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191120" cy="30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63640" y="5602320"/>
            <a:ext cx="23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18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组织单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2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删除组织单位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域中的某个组织单位不再发挥作用时，管理员可将其删除，以免影响对其他组织单位的管理。要删除不再需要的组织单位，可以依次选择“开始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→“程序”→“管理工具”→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户和计算机”选项，打开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户和计算机”窗口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2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设置组织单位属性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单位被添加之后，如果不根据需要设置其属性，就很难发挥其管理的方便性和安全性。通过设置组织单位的属性，不但可以指定组织单位的管理人和常规属性，也可为组织单位创建组策略。要设置组织单位的属性，可参照下面的步骤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1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2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36100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-19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02040" cy="4038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13600" y="5638680"/>
            <a:ext cx="27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19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常规”选项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100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-20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902040" cy="4038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86960" y="571500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0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管理者”选项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36100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828960" cy="3962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49320" y="5715000"/>
            <a:ext cx="29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策略”选项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47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-2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75624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198040" y="575640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策略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用户账户的管理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62320" y="1904760"/>
            <a:ext cx="5410080" cy="37335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 fontScale="93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7.3.1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2" action="ppaction://hlinksldjump"/>
              </a:rPr>
              <a:t>用户账户的类型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4" action="ppaction://hlinksldjump"/>
              </a:rPr>
              <a:t>7.3.2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5" action="ppaction://hlinksldjump"/>
              </a:rPr>
              <a:t>内置的用户账户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7" action="ppaction://hlinksldjump"/>
              </a:rPr>
              <a:t>7.3.3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8" action="ppaction://hlinksldjump"/>
              </a:rPr>
              <a:t>建立域用户账户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0" action="ppaction://hlinksldjump"/>
              </a:rPr>
              <a:t>7.3.4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1" action="ppaction://hlinksldjump"/>
              </a:rPr>
              <a:t>域用户账户的属性设置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3" action="ppaction://hlinksldjump"/>
              </a:rPr>
              <a:t>7.3.5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4" action="ppaction://hlinksldjump"/>
              </a:rPr>
              <a:t>管理域用户账户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6" action="ppaction://hlinksldjump"/>
              </a:rPr>
              <a:t>7.3.6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7" action="ppaction://hlinksldjump"/>
              </a:rPr>
              <a:t>建立本地用户账户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9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3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用户账户的类型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域用户账户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域用户账户建立在域控制器的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内。用户可以利用域用户账户来登录域，并利用它来访问网络上的资源，例如访问其他计算机内的文件、打印机等资源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本地用户账户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本地用户账户建立在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独立服务器、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成员服务器或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Windows 2000 Professional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的本地安全数据库内，而不是域控制器内。用户可以利用本地用户账户来登录此计算机，但是只能够访问这台计算机内的资源，无法访问网络上的资源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3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内置的用户账户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dministrator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管理员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dministrato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拥有最高的权限，可以用它来管理计算机与域内的设置，例如建立、更改、删除用户与组账户、设置安全策略、设置用户帐户的权限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Gu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客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Gues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供临时用户使用的账户，例如提供偶尔需要登录、或者仅登录一次的用户使用，以便访问网络上的资源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3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建立域用户账户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必须使用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和计算机”管理单元来建立域用户账户。当使用这个管理单元来建立账户时，这个账户会被建立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台所找到的第一台域控制器内，以后该账户会被自动复制到此域内的所有域控制器内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每个用户账户添加完成后，活动目录都会为其建立一个惟一的安全识别码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curity Identifi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内部是利用这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来代表该用户，有关的权限设置等都是通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来设置的，而不是利用用户的账户名称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524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905120"/>
          <a:ext cx="40384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40384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48080" y="5651640"/>
            <a:ext cx="31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23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新建对象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用户”对话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2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038840" cy="3303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33200" y="57150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24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密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2388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活动目录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086600" cy="274320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7.1.1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2" action="ppaction://hlinksldjump"/>
              </a:rPr>
              <a:t>活动目录简介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4" action="ppaction://hlinksldjump"/>
              </a:rPr>
              <a:t>7.1.2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5" action="ppaction://hlinksldjump"/>
              </a:rPr>
              <a:t>活动目录的优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6" action="ppaction://hlinksldjump"/>
              </a:rPr>
              <a:t>7.1.3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7" action="ppaction://hlinksldjump"/>
              </a:rPr>
              <a:t>安装活动目录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9" action="ppaction://hlinksldjump"/>
              </a:rPr>
              <a:t>7.1.4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0" action="ppaction://hlinksldjump"/>
              </a:rPr>
              <a:t>活动目录用户和计算机控制台的使用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3.4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域用户账户的属性设置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8128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用户个人信息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谓“用户个人信息”，就是指姓名、地址、电话、传真、移动电话、公司、部门、职称、电子邮件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页等。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7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4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95560" cy="4191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547600" y="6232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25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属性”对话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3392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账户信息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择“账户”选项卡，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2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账户过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登录时间的设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限制用户只能够从某些工作站登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7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5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683160" cy="3962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648400" y="6156360"/>
            <a:ext cx="22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26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账户”选项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1194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724280" cy="2711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88840" y="5791320"/>
            <a:ext cx="26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7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登录时段”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193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7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57600" cy="3508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83680" y="58024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28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允许登录的工作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3.5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管理域用户账户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依次选择“开始”→“程序”→“管理工具”→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户和计算机”选项，打开“活动目录用户和计算机”对话框，选定用户账户并右击，打开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2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的快捷菜单，然后选择相应的命令来管理域用户账户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复制。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停用账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用账户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命名。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删除账户。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设密码。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解除被锁定的账户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7338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447920" y="1295280"/>
          <a:ext cx="624816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076560" y="548640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9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管理域用户账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3.6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建立本地用户账户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地用户账户是建立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 Professiona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独立服务器或成员服务器的本地安全数据库内，而不是域控制器内的账户。用户可以利用本地用户账户登录此账户所在的计算机，但是无法登录域，同时只能够访问这台计算机内的资源，无法访问网络上的资源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4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的建立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71440" y="1752480"/>
            <a:ext cx="3886200" cy="335304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7.4.1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2" action="ppaction://hlinksldjump"/>
              </a:rPr>
              <a:t>组的类型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4" action="ppaction://hlinksldjump"/>
              </a:rPr>
              <a:t>7.4.2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5" action="ppaction://hlinksldjump"/>
              </a:rPr>
              <a:t>组的作用域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7" action="ppaction://hlinksldjump"/>
              </a:rPr>
              <a:t>7.4.3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8" action="ppaction://hlinksldjump"/>
              </a:rPr>
              <a:t>域组的管理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0" action="ppaction://hlinksldjump"/>
              </a:rPr>
              <a:t>7.4.4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1" action="ppaction://hlinksldjump"/>
              </a:rPr>
              <a:t>本地组的建立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9933"/>
                </a:solidFill>
                <a:uFillTx/>
                <a:latin typeface="Arial"/>
                <a:hlinkClick r:id="rId13" action="ppaction://hlinksldjump"/>
              </a:rPr>
              <a:t>7.4.5  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4" action="ppaction://hlinksldjump"/>
              </a:rPr>
              <a:t>内置的组</a:t>
            </a:r>
            <a:r>
              <a:rPr b="1" lang="zh-CN" sz="2800" spc="-1" strike="noStrike" u="sng">
                <a:solidFill>
                  <a:srgbClr val="999933"/>
                </a:solidFill>
                <a:uFillTx/>
                <a:latin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6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4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的类型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支持的组分为以下两种类型：安全式和分布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安全组：安全组可以用来设置权限，简化网络的维护和管理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布式组：分布式组只能用在与安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权限的设置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关的任务上，例如，可以将电子邮件发送给某个分布式组。分布式组不能进行权限设置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4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的作用域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全局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全局组主要是用来组织用户，可以将多个权限相似的用户账户加入到同一个全局组内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本地域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地域组主要用来指派其在所属域内的访问权限，以便可以访问该域内的资源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通用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通用组主要用来指派在所有域内的访问权限，以便可以访问每一个域内的资源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4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域组的管理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以依次选择“开始”→“程序”→“管理工具”→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户和计算机”选项，打开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户和计算机”对话框，来添加、删除与管理域组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域组的添加、删除与更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添加域组的成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1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活动目录简介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动目录是一种目录服务，它存储有关网络对象的信息，例如，用户、组和计算机账户、共享资源和打印机等，并使管理员和用户可以方便地查找和使用网络信息。活动目录的应用起源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NT 4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得到进一步的应用和发展，具有可扩展性和可调整性，并将结构化数据存储作为目录信息逻辑和分层组织的基础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域模式的最大好处就是它的单一网络登录能力，任何用户只要在域内有一个账户，就可以漫游网络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34243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0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3321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30240" y="562284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30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新建对象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”对话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529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1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43400" cy="3089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57800" y="5486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31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用户、联系人或计算机”对话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4.4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本地组的建立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地组是建立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 Profession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独立服务器或成员服务器的本地安全数据库内，而不是域控制器内。本地组只能够访问此组所在计算机内的资源，无法访问网络上的资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建议只在未加入域的计算机内建立本地组账户，而不要在加入域的计算机内建立本地组账户，因为无法通过域内其他任何一台计算机来访问这些账户、设置这些账户的权限，因此这些账户无法访问域上的资源，同时域系统管理员也无法管理这些本地组账户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7.4.5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内置的组</a:t>
            </a:r>
            <a:r>
              <a:rPr b="1" lang="zh-CN" sz="36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域内含多个内置的组，包括本地域组、全局组与系统组。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独立服务器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成员服务器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 Profession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内则包含了一些内置的本地组与系统组。这些组本身己被赋予了一些权利与权限，以便让其具备管理域控制器与活动目录的能力。只要将用户或全局组等账户加入到这些内置的本地域组内，这些账户也将具有相同的权利与权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 Antiqua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Book Antiqua"/>
              </a:rPr>
              <a:t>！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5909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endshow"/>
          </p:cNvPr>
          <p:cNvSpPr/>
          <p:nvPr/>
        </p:nvSpPr>
        <p:spPr>
          <a:xfrm>
            <a:off x="5920560" y="626436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域中的所有域控制器之间都是平等关系，不再区分主域控制器和备份域控制器，这是因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采用了动态活动目录服务，在进行目录复制时不是沿用一般目录服务的主从方式，而是采用多主复制方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动目录服务的另一大特点是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融合，它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为其定位服务。为了克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管理困难的缺点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其特有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HC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N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紧密配合起来，从而使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管理变得易于操作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1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活动目录的优点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120" y="1981080"/>
            <a:ext cx="3581640" cy="419112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基于策略的管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扩展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可调整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信息复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集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灵活的查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信息安全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6248520"/>
            <a:ext cx="12193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7.1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安装活动目录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活动目录安装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-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61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191120" cy="291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8240" y="6172200"/>
            <a:ext cx="39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1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启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安装向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3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66120" y="5181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域控制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10240" cy="287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62800" y="5181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目录树或子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2987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304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32560" y="53341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-4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创建或加入目录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5320" y="533412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-5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新域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1:48:20Z</dcterms:created>
  <dc:creator>新人电脑</dc:creator>
  <dc:description/>
  <dc:language>en-US</dc:language>
  <cp:lastModifiedBy>新人电脑</cp:lastModifiedBy>
  <dcterms:modified xsi:type="dcterms:W3CDTF">2002-01-25T02:40:34Z</dcterms:modified>
  <cp:revision>43</cp:revision>
  <dc:subject/>
  <dc:title>第7章  使用和管理Windows 2000活动目录 </dc:title>
</cp:coreProperties>
</file>